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1.pct" ContentType="image/x-pict"/>
  <Override PartName="/ppt/media/image13.png" ContentType="image/png"/>
  <Override PartName="/ppt/media/image10.pct" ContentType="image/x-pict"/>
  <Override PartName="/ppt/media/image6.jpeg" ContentType="image/jpeg"/>
  <Override PartName="/ppt/media/image5.png" ContentType="image/png"/>
  <Override PartName="/ppt/media/image8.jpeg" ContentType="image/jpeg"/>
  <Override PartName="/ppt/media/Pig.wav" ContentType="audio/x-wav"/>
  <Override PartName="/ppt/media/image7.png" ContentType="image/png"/>
  <Override PartName="/ppt/media/image21.png" ContentType="image/png"/>
  <Override PartName="/ppt/media/image1.pct" ContentType="image/x-pict"/>
  <Override PartName="/ppt/media/image20.jpeg" ContentType="image/jpeg"/>
  <Override PartName="/ppt/media/image18.png" ContentType="image/png"/>
  <Override PartName="/ppt/media/image15.pct" ContentType="image/x-pict"/>
  <Override PartName="/ppt/media/image19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A505-FADE-46AD-9AFC-8856B31FC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 carbon sugar went into the Krebs cycle and was taken apart completely. Two CO2 molecules were produced from that 2 carbon sugar. Glucose has now been fully oxid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’s all the ATP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ime the carbons are oxidized, an NAD+ is being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ait…where’s all the ATP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stop at pyruvate == not enough energy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! There is still energy stored in those b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all eukaryotic cells hav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1 very large mitochondrion or 100s to 1000s of individual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of mitochondria is correlated with aerobic metabolic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activity = more energy needed = mor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ells would have a lot of mitochondr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e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ully oxidized carbon == can’t get any more energy 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ully reduced carbon == good fue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completely oxidized…already released all energy it can release … no longer valuable to cell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hat’s th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s to make AT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audio" Target="../media/Pig.wav"/><Relationship Id="rId7" Type="http://schemas.openxmlformats.org/officeDocument/2006/relationships/audio" Target="../media/Pig.wav"/><Relationship Id="rId8" Type="http://schemas.openxmlformats.org/officeDocument/2006/relationships/audio" Target="../media/Pig.wav"/><Relationship Id="rId9" Type="http://schemas.openxmlformats.org/officeDocument/2006/relationships/audio" Target="../media/Pig.wav"/><Relationship Id="rId10" Type="http://schemas.openxmlformats.org/officeDocument/2006/relationships/audio" Target="../media/Pig.wav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ct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audio" Target="../media/Pig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11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14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18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21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25" name="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28" name="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39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142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145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275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278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281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284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287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290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293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296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299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367760" y="3962520"/>
            <a:ext cx="1536840" cy="679680"/>
            <a:chOff x="7367760" y="3962520"/>
            <a:chExt cx="1536840" cy="679680"/>
          </a:xfrm>
        </p:grpSpPr>
        <p:sp>
          <p:nvSpPr>
            <p:cNvPr id="302" name=""/>
            <p:cNvSpPr/>
            <p:nvPr/>
          </p:nvSpPr>
          <p:spPr>
            <a:xfrm>
              <a:off x="7367760" y="3962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16280" y="416700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681960" y="5715000"/>
            <a:ext cx="1536840" cy="679680"/>
            <a:chOff x="6681960" y="5715000"/>
            <a:chExt cx="1536840" cy="679680"/>
          </a:xfrm>
        </p:grpSpPr>
        <p:sp>
          <p:nvSpPr>
            <p:cNvPr id="305" name=""/>
            <p:cNvSpPr/>
            <p:nvPr/>
          </p:nvSpPr>
          <p:spPr>
            <a:xfrm>
              <a:off x="6681960" y="571500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30480" y="591948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7160" y="684720"/>
            <a:ext cx="413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carbon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13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97720" y="4385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6720" y="3457440"/>
            <a:ext cx="167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xida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suga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twic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323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326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329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332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335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338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341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344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47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367760" y="3687840"/>
            <a:ext cx="1536840" cy="679680"/>
            <a:chOff x="7367760" y="3687840"/>
            <a:chExt cx="1536840" cy="679680"/>
          </a:xfrm>
        </p:grpSpPr>
        <p:sp>
          <p:nvSpPr>
            <p:cNvPr id="350" name=""/>
            <p:cNvSpPr/>
            <p:nvPr/>
          </p:nvSpPr>
          <p:spPr>
            <a:xfrm>
              <a:off x="7367760" y="368784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16280" y="389232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86520" y="5410080"/>
            <a:ext cx="1537200" cy="679680"/>
            <a:chOff x="6986520" y="5410080"/>
            <a:chExt cx="1537200" cy="679680"/>
          </a:xfrm>
        </p:grpSpPr>
        <p:sp>
          <p:nvSpPr>
            <p:cNvPr id="353" name=""/>
            <p:cNvSpPr/>
            <p:nvPr/>
          </p:nvSpPr>
          <p:spPr>
            <a:xfrm>
              <a:off x="6986520" y="5410080"/>
              <a:ext cx="838440" cy="53316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35400" y="561456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7880" y="685800"/>
            <a:ext cx="583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electron carrier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61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7600" y="3303720"/>
            <a:ext cx="1807560" cy="11847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duc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electr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rie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95920" y="46587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104240" y="777960"/>
            <a:ext cx="1536840" cy="679680"/>
            <a:chOff x="7104240" y="777960"/>
            <a:chExt cx="1536840" cy="679680"/>
          </a:xfrm>
        </p:grpSpPr>
        <p:sp>
          <p:nvSpPr>
            <p:cNvPr id="369" name=""/>
            <p:cNvSpPr/>
            <p:nvPr/>
          </p:nvSpPr>
          <p:spPr>
            <a:xfrm>
              <a:off x="7104240" y="77796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52760" y="982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286760" y="4363920"/>
            <a:ext cx="1857240" cy="868320"/>
            <a:chOff x="7286760" y="4363920"/>
            <a:chExt cx="1857240" cy="868320"/>
          </a:xfrm>
        </p:grpSpPr>
        <p:grpSp>
          <p:nvGrpSpPr>
            <p:cNvPr id="372" name=""/>
            <p:cNvGrpSpPr/>
            <p:nvPr/>
          </p:nvGrpSpPr>
          <p:grpSpPr>
            <a:xfrm>
              <a:off x="7286760" y="4373640"/>
              <a:ext cx="1849680" cy="656280"/>
              <a:chOff x="7286760" y="4373640"/>
              <a:chExt cx="1849680" cy="656280"/>
            </a:xfrm>
          </p:grpSpPr>
          <p:sp>
            <p:nvSpPr>
              <p:cNvPr id="373" name=""/>
              <p:cNvSpPr/>
              <p:nvPr/>
            </p:nvSpPr>
            <p:spPr>
              <a:xfrm>
                <a:off x="7286760" y="43736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151120" y="460080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8091360" y="436392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6453360" y="5946840"/>
            <a:ext cx="1849680" cy="911160"/>
            <a:chOff x="6453360" y="5946840"/>
            <a:chExt cx="1849680" cy="911160"/>
          </a:xfrm>
        </p:grpSpPr>
        <p:grpSp>
          <p:nvGrpSpPr>
            <p:cNvPr id="377" name=""/>
            <p:cNvGrpSpPr/>
            <p:nvPr/>
          </p:nvGrpSpPr>
          <p:grpSpPr>
            <a:xfrm>
              <a:off x="6453360" y="5946840"/>
              <a:ext cx="1849680" cy="656640"/>
              <a:chOff x="6453360" y="5946840"/>
              <a:chExt cx="1849680" cy="656640"/>
            </a:xfrm>
          </p:grpSpPr>
          <p:sp>
            <p:nvSpPr>
              <p:cNvPr id="378" name=""/>
              <p:cNvSpPr/>
              <p:nvPr/>
            </p:nvSpPr>
            <p:spPr>
              <a:xfrm>
                <a:off x="6453360" y="59468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17720" y="6174360"/>
                <a:ext cx="98532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7250040" y="598968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1741320" y="1790640"/>
            <a:ext cx="1839600" cy="1031400"/>
            <a:chOff x="1741320" y="1790640"/>
            <a:chExt cx="1839600" cy="1031400"/>
          </a:xfrm>
        </p:grpSpPr>
        <p:grpSp>
          <p:nvGrpSpPr>
            <p:cNvPr id="382" name=""/>
            <p:cNvGrpSpPr/>
            <p:nvPr/>
          </p:nvGrpSpPr>
          <p:grpSpPr>
            <a:xfrm>
              <a:off x="1830960" y="2135880"/>
              <a:ext cx="1749960" cy="686160"/>
              <a:chOff x="1830960" y="2135880"/>
              <a:chExt cx="1749960" cy="686160"/>
            </a:xfrm>
          </p:grpSpPr>
          <p:sp>
            <p:nvSpPr>
              <p:cNvPr id="383" name=""/>
              <p:cNvSpPr/>
              <p:nvPr/>
            </p:nvSpPr>
            <p:spPr>
              <a:xfrm flipH="1" flipV="1">
                <a:off x="2742840" y="228852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830600" y="213588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5" name="" descr=""/>
            <p:cNvPicPr/>
            <p:nvPr/>
          </p:nvPicPr>
          <p:blipFill>
            <a:blip r:embed="rId3"/>
            <a:stretch/>
          </p:blipFill>
          <p:spPr>
            <a:xfrm>
              <a:off x="1741320" y="179064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"/>
          <p:cNvGrpSpPr/>
          <p:nvPr/>
        </p:nvGrpSpPr>
        <p:grpSpPr>
          <a:xfrm>
            <a:off x="7023240" y="1409760"/>
            <a:ext cx="1930320" cy="868320"/>
            <a:chOff x="7023240" y="1409760"/>
            <a:chExt cx="1930320" cy="868320"/>
          </a:xfrm>
        </p:grpSpPr>
        <p:grpSp>
          <p:nvGrpSpPr>
            <p:cNvPr id="387" name=""/>
            <p:cNvGrpSpPr/>
            <p:nvPr/>
          </p:nvGrpSpPr>
          <p:grpSpPr>
            <a:xfrm>
              <a:off x="7023240" y="1463760"/>
              <a:ext cx="1849680" cy="656280"/>
              <a:chOff x="7023240" y="1463760"/>
              <a:chExt cx="1849680" cy="656280"/>
            </a:xfrm>
          </p:grpSpPr>
          <p:sp>
            <p:nvSpPr>
              <p:cNvPr id="388" name=""/>
              <p:cNvSpPr/>
              <p:nvPr/>
            </p:nvSpPr>
            <p:spPr>
              <a:xfrm>
                <a:off x="7023240" y="146376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887600" y="169092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90" name="" descr=""/>
            <p:cNvPicPr/>
            <p:nvPr/>
          </p:nvPicPr>
          <p:blipFill>
            <a:blip r:embed="rId4"/>
            <a:stretch/>
          </p:blipFill>
          <p:spPr>
            <a:xfrm>
              <a:off x="7900920" y="140976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1704960" y="5259240"/>
            <a:ext cx="1876320" cy="1068480"/>
            <a:chOff x="1704960" y="5259240"/>
            <a:chExt cx="1876320" cy="1068480"/>
          </a:xfrm>
        </p:grpSpPr>
        <p:grpSp>
          <p:nvGrpSpPr>
            <p:cNvPr id="392" name=""/>
            <p:cNvGrpSpPr/>
            <p:nvPr/>
          </p:nvGrpSpPr>
          <p:grpSpPr>
            <a:xfrm>
              <a:off x="1762920" y="5617800"/>
              <a:ext cx="1818360" cy="709920"/>
              <a:chOff x="1762920" y="5617800"/>
              <a:chExt cx="1818360" cy="709920"/>
            </a:xfrm>
          </p:grpSpPr>
          <p:sp>
            <p:nvSpPr>
              <p:cNvPr id="393" name=""/>
              <p:cNvSpPr/>
              <p:nvPr/>
            </p:nvSpPr>
            <p:spPr>
              <a:xfrm flipH="1" flipV="1">
                <a:off x="2743200" y="5794200"/>
                <a:ext cx="838080" cy="53352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520"/>
                  <a:gd name="textAreaBottom" fmla="*/ 38700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1762560" y="5617800"/>
                <a:ext cx="1045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95" name="" descr=""/>
            <p:cNvPicPr/>
            <p:nvPr/>
          </p:nvPicPr>
          <p:blipFill>
            <a:blip r:embed="rId5"/>
            <a:stretch/>
          </p:blipFill>
          <p:spPr>
            <a:xfrm>
              <a:off x="1704960" y="5259240"/>
              <a:ext cx="1109520" cy="9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"/>
          <p:cNvGrpSpPr/>
          <p:nvPr/>
        </p:nvGrpSpPr>
        <p:grpSpPr>
          <a:xfrm>
            <a:off x="4211640" y="6148440"/>
            <a:ext cx="1203480" cy="709560"/>
            <a:chOff x="4211640" y="6148440"/>
            <a:chExt cx="1203480" cy="709560"/>
          </a:xfrm>
        </p:grpSpPr>
        <p:sp>
          <p:nvSpPr>
            <p:cNvPr id="397" name=""/>
            <p:cNvSpPr/>
            <p:nvPr/>
          </p:nvSpPr>
          <p:spPr>
            <a:xfrm>
              <a:off x="4331880" y="6148440"/>
              <a:ext cx="1083240" cy="70956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1640" y="6296400"/>
              <a:ext cx="183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5400000">
            <a:off x="5206680" y="6215040"/>
            <a:ext cx="235080" cy="555480"/>
          </a:xfrm>
          <a:custGeom>
            <a:avLst/>
            <a:gdLst>
              <a:gd name="textAreaLeft" fmla="*/ 31320 w 235080"/>
              <a:gd name="textAreaRight" fmla="*/ 203760 w 235080"/>
              <a:gd name="textAreaTop" fmla="*/ 93600 h 555480"/>
              <a:gd name="textAreaBottom" fmla="*/ 40644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82" stAng="-5400000" swAng="-5400000"/>
                <a:lnTo>
                  <a:pt x="0" y="12158"/>
                </a:lnTo>
                <a:arcTo wR="21600" hR="7282" stAng="10800000" swAng="-2824073"/>
                <a:lnTo>
                  <a:pt x="15136" y="21266"/>
                </a:lnTo>
                <a:lnTo>
                  <a:pt x="21600" y="17002"/>
                </a:lnTo>
                <a:lnTo>
                  <a:pt x="15136" y="12070"/>
                </a:lnTo>
                <a:lnTo>
                  <a:pt x="15136" y="14230"/>
                </a:lnTo>
                <a:arcTo wR="21600" hR="7282" stAng="7975927" swAng="2414242"/>
                <a:lnTo>
                  <a:pt x="1247" y="9720"/>
                </a:lnTo>
                <a:arcTo wR="21600" hR="7282" stAng="-10390169" swAng="4990169"/>
                <a:close/>
              </a:path>
              <a:path fill="darkenLess" w="21600" h="21600">
                <a:moveTo>
                  <a:pt x="21600" y="0"/>
                </a:moveTo>
                <a:arcTo wR="21600" hR="7282" stAng="-5400000" swAng="-5400000"/>
                <a:lnTo>
                  <a:pt x="0" y="7282"/>
                </a:lnTo>
                <a:arcTo wR="21600" hR="7282" stAng="10800000" swAng="-409831"/>
                <a:lnTo>
                  <a:pt x="1247" y="9720"/>
                </a:lnTo>
                <a:arcTo wR="21600" hR="7282" stAng="-10390169" swAng="4990169"/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697" t="2400" r="2697" b="4561"/>
          <a:stretch/>
        </p:blipFill>
        <p:spPr>
          <a:xfrm>
            <a:off x="3271680" y="466560"/>
            <a:ext cx="5710320" cy="631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1" name=""/>
          <p:cNvSpPr/>
          <p:nvPr/>
        </p:nvSpPr>
        <p:spPr>
          <a:xfrm>
            <a:off x="685800" y="1371600"/>
            <a:ext cx="2438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fully oxidized glucose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ended up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4 AT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0760" y="684720"/>
            <a:ext cx="2360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Whassup?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 flipH="1">
            <a:off x="1419120" y="5659560"/>
            <a:ext cx="1735200" cy="1073160"/>
          </a:xfrm>
          <a:prstGeom prst="wedgeEllipseCallout">
            <a:avLst>
              <a:gd name="adj1" fmla="val 72597"/>
              <a:gd name="adj2" fmla="val -2929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1707" t="2400" r="5111" b="4441"/>
          <a:stretch/>
        </p:blipFill>
        <p:spPr>
          <a:xfrm>
            <a:off x="4373640" y="1390680"/>
            <a:ext cx="3786120" cy="5371920"/>
          </a:xfrm>
          <a:prstGeom prst="rect">
            <a:avLst/>
          </a:prstGeom>
          <a:ln w="9360">
            <a:solidFill>
              <a:srgbClr val="66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582480" y="1371600"/>
            <a:ext cx="3810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s cycle produces large quantities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carrier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5880" y="684720"/>
            <a:ext cx="795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lectron Carriers = Hydrogen Carriers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flipH="1">
            <a:off x="1617840" y="5364000"/>
            <a:ext cx="2433600" cy="1430640"/>
          </a:xfrm>
          <a:prstGeom prst="wedgeEllipseCallout">
            <a:avLst>
              <a:gd name="adj1" fmla="val 72370"/>
              <a:gd name="adj2" fmla="val -1281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s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mportant abou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lectron carriers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902280" y="1217520"/>
            <a:ext cx="2157480" cy="2675160"/>
            <a:chOff x="6902280" y="1217520"/>
            <a:chExt cx="2157480" cy="2675160"/>
          </a:xfrm>
        </p:grpSpPr>
        <p:pic>
          <p:nvPicPr>
            <p:cNvPr id="411" name="" descr="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6902280" y="1217520"/>
              <a:ext cx="2157480" cy="267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12" name=""/>
            <p:cNvSpPr/>
            <p:nvPr/>
          </p:nvSpPr>
          <p:spPr>
            <a:xfrm>
              <a:off x="8310960" y="3673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44160" y="15573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44596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66480" y="13302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6032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185680" y="1544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25200" y="13622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45840" y="13590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84120" y="12412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085160" y="3355920"/>
            <a:ext cx="53640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70320" y="286704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92160" y="1744560"/>
            <a:ext cx="7832880" cy="32004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Krebs cycl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51955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t g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8 NADH + 2 FAD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219120" y="3527280"/>
            <a:ext cx="3075840" cy="1067760"/>
            <a:chOff x="3219120" y="3527280"/>
            <a:chExt cx="3075840" cy="1067760"/>
          </a:xfrm>
        </p:grpSpPr>
        <p:sp>
          <p:nvSpPr>
            <p:cNvPr id="427" name=""/>
            <p:cNvSpPr/>
            <p:nvPr/>
          </p:nvSpPr>
          <p:spPr>
            <a:xfrm flipV="1">
              <a:off x="4281480" y="3527280"/>
              <a:ext cx="914400" cy="6098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19120" y="404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3520" y="404424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295960" y="3987720"/>
            <a:ext cx="1182600" cy="7747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fe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5392800" y="1300320"/>
            <a:ext cx="10522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283680" y="1849320"/>
            <a:ext cx="8399880" cy="3039840"/>
            <a:chOff x="283680" y="1849320"/>
            <a:chExt cx="8399880" cy="3039840"/>
          </a:xfrm>
        </p:grpSpPr>
        <p:sp>
          <p:nvSpPr>
            <p:cNvPr id="433" name=""/>
            <p:cNvSpPr/>
            <p:nvPr/>
          </p:nvSpPr>
          <p:spPr>
            <a:xfrm>
              <a:off x="283680" y="3038040"/>
              <a:ext cx="689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135080" y="1849320"/>
              <a:ext cx="1087200" cy="3039840"/>
              <a:chOff x="1135080" y="1849320"/>
              <a:chExt cx="1087200" cy="3039840"/>
            </a:xfrm>
          </p:grpSpPr>
          <p:sp>
            <p:nvSpPr>
              <p:cNvPr id="435" name=""/>
              <p:cNvSpPr/>
              <p:nvPr/>
            </p:nvSpPr>
            <p:spPr>
              <a:xfrm>
                <a:off x="113508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65096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596360" y="1849320"/>
              <a:ext cx="1087200" cy="3039840"/>
              <a:chOff x="7596360" y="1849320"/>
              <a:chExt cx="1087200" cy="3039840"/>
            </a:xfrm>
          </p:grpSpPr>
          <p:sp>
            <p:nvSpPr>
              <p:cNvPr id="438" name=""/>
              <p:cNvSpPr/>
              <p:nvPr/>
            </p:nvSpPr>
            <p:spPr>
              <a:xfrm flipH="1">
                <a:off x="778644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59600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1440720" y="2123640"/>
            <a:ext cx="7132680" cy="1022760"/>
            <a:chOff x="1440720" y="2123640"/>
            <a:chExt cx="7132680" cy="1022760"/>
          </a:xfrm>
        </p:grpSpPr>
        <p:sp>
          <p:nvSpPr>
            <p:cNvPr id="441" name=""/>
            <p:cNvSpPr/>
            <p:nvPr/>
          </p:nvSpPr>
          <p:spPr>
            <a:xfrm>
              <a:off x="4260600" y="2536920"/>
              <a:ext cx="914040" cy="609480"/>
            </a:xfrm>
            <a:custGeom>
              <a:avLst/>
              <a:gdLst>
                <a:gd name="textAreaLeft" fmla="*/ 159840 w 914040"/>
                <a:gd name="textAreaRight" fmla="*/ 662760 w 9140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40720" y="2154960"/>
              <a:ext cx="286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FA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38560" y="2123640"/>
              <a:ext cx="3534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ADH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510200" y="3038040"/>
            <a:ext cx="6298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24040" y="35910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048080" y="3587760"/>
            <a:ext cx="1000440" cy="533160"/>
            <a:chOff x="7048080" y="3587760"/>
            <a:chExt cx="1000440" cy="533160"/>
          </a:xfrm>
        </p:grpSpPr>
        <p:sp>
          <p:nvSpPr>
            <p:cNvPr id="447" name=""/>
            <p:cNvSpPr/>
            <p:nvPr/>
          </p:nvSpPr>
          <p:spPr>
            <a:xfrm>
              <a:off x="7048080" y="36111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15360" y="3587760"/>
              <a:ext cx="533160" cy="5331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7070760" y="1274760"/>
            <a:ext cx="11095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rcRect l="902" t="3646" r="902" b="4857"/>
          <a:stretch/>
        </p:blipFill>
        <p:spPr>
          <a:xfrm>
            <a:off x="633240" y="4011480"/>
            <a:ext cx="4017960" cy="27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lue of Krebs cycl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the yield is only 2 ATP then how was the Krebs cycle an adap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alue of NADH &amp; FAD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 carriers &amp; H carri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electr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H</a:t>
            </a:r>
            <a:r>
              <a:rPr b="1" lang="en-US" sz="1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o be used in th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10200" y="4572000"/>
            <a:ext cx="1330200" cy="1041480"/>
          </a:xfrm>
          <a:prstGeom prst="wedgeEllipseCallout">
            <a:avLst>
              <a:gd name="adj1" fmla="val 30550"/>
              <a:gd name="adj2" fmla="val 8262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162840" y="3973680"/>
            <a:ext cx="2981160" cy="2884320"/>
            <a:chOff x="6162840" y="3973680"/>
            <a:chExt cx="2981160" cy="2884320"/>
          </a:xfrm>
        </p:grpSpPr>
        <p:pic>
          <p:nvPicPr>
            <p:cNvPr id="455" name="" descr=""/>
            <p:cNvPicPr/>
            <p:nvPr/>
          </p:nvPicPr>
          <p:blipFill>
            <a:blip r:embed="rId2"/>
            <a:stretch/>
          </p:blipFill>
          <p:spPr>
            <a:xfrm>
              <a:off x="701028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3"/>
            <a:stretch/>
          </p:blipFill>
          <p:spPr>
            <a:xfrm>
              <a:off x="616284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58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61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791240" y="414360"/>
            <a:ext cx="4152600" cy="5738760"/>
            <a:chOff x="4791240" y="414360"/>
            <a:chExt cx="4152600" cy="573876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791240" y="414360"/>
              <a:ext cx="4152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7807680" y="5684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30840" y="449748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66040" y="38718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32640" y="3054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64640" y="1141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9676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39600" y="655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5672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39480" y="1112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09160" y="7239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12280" y="7160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0320" y="466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300640" y="504180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21280" y="5087880"/>
            <a:ext cx="138888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1600" y="6329520"/>
            <a:ext cx="467820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34040" y="4292640"/>
            <a:ext cx="1022040" cy="514440"/>
          </a:xfrm>
          <a:custGeom>
            <a:avLst/>
            <a:gdLst>
              <a:gd name="textAreaLeft" fmla="*/ 233280 w 1022040"/>
              <a:gd name="textAreaRight" fmla="*/ 788760 w 102204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59440" y="462276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360760" y="4364640"/>
            <a:ext cx="671400" cy="459720"/>
            <a:chOff x="5360760" y="4364640"/>
            <a:chExt cx="671400" cy="459720"/>
          </a:xfrm>
        </p:grpSpPr>
        <p:sp>
          <p:nvSpPr>
            <p:cNvPr id="487" name=""/>
            <p:cNvSpPr/>
            <p:nvPr/>
          </p:nvSpPr>
          <p:spPr>
            <a:xfrm>
              <a:off x="5633640" y="439596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60760" y="436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381480" y="1114560"/>
            <a:ext cx="5403600" cy="2789280"/>
          </a:xfrm>
          <a:prstGeom prst="wedgeEllipseCallout">
            <a:avLst>
              <a:gd name="adj1" fmla="val -70592"/>
              <a:gd name="adj2" fmla="val 717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 final chapter to my story is next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2 &amp; 3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0" r="0" b="347576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676520" y="5494320"/>
            <a:ext cx="6019560" cy="1143000"/>
            <a:chOff x="1676520" y="5494320"/>
            <a:chExt cx="6019560" cy="1143000"/>
          </a:xfrm>
        </p:grpSpPr>
        <p:sp>
          <p:nvSpPr>
            <p:cNvPr id="151" name=""/>
            <p:cNvSpPr/>
            <p:nvPr/>
          </p:nvSpPr>
          <p:spPr>
            <a:xfrm>
              <a:off x="1676520" y="54943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54600" y="5530320"/>
              <a:ext cx="5055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is only the sta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yruvate has more energy to yiel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 more C to strip off (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xidiz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s available, pyruvate enters mitochond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 of Krebs cycle complete the full oxidation of sugar to C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1905120"/>
            <a:ext cx="6019560" cy="1143000"/>
            <a:chOff x="1676520" y="1905120"/>
            <a:chExt cx="6019560" cy="1143000"/>
          </a:xfrm>
        </p:grpSpPr>
        <p:sp>
          <p:nvSpPr>
            <p:cNvPr id="156" name=""/>
            <p:cNvSpPr/>
            <p:nvPr/>
          </p:nvSpPr>
          <p:spPr>
            <a:xfrm>
              <a:off x="1676520" y="19051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992960" y="1972440"/>
              <a:ext cx="5385960" cy="1007280"/>
              <a:chOff x="1992960" y="1972440"/>
              <a:chExt cx="5385960" cy="1007280"/>
            </a:xfrm>
          </p:grpSpPr>
          <p:sp>
            <p:nvSpPr>
              <p:cNvPr id="158" name=""/>
              <p:cNvSpPr/>
              <p:nvPr/>
            </p:nvSpPr>
            <p:spPr>
              <a:xfrm>
                <a:off x="6103440" y="2471400"/>
                <a:ext cx="50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6600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92120" y="245268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6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59200" y="245268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92960" y="1972440"/>
                <a:ext cx="5385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glucose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pyruvate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292480" y="604188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cc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6041880"/>
            <a:ext cx="609480" cy="52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902" b="4857"/>
          <a:stretch/>
        </p:blipFill>
        <p:spPr>
          <a:xfrm>
            <a:off x="1066680" y="1371600"/>
            <a:ext cx="6870960" cy="488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331720" y="4218120"/>
            <a:ext cx="6704280" cy="2656800"/>
            <a:chOff x="2331720" y="4218120"/>
            <a:chExt cx="6704280" cy="265680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rcRect l="29251" t="15000" r="0" b="21000"/>
            <a:stretch/>
          </p:blipFill>
          <p:spPr>
            <a:xfrm>
              <a:off x="5267520" y="4218120"/>
              <a:ext cx="376848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135040" y="4597560"/>
              <a:ext cx="12884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7320" y="470556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20720" y="445788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15000" y="5234040"/>
              <a:ext cx="5371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7960" y="4978440"/>
              <a:ext cx="5767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011800" y="4792680"/>
              <a:ext cx="12708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1240" y="5010120"/>
              <a:ext cx="358920" cy="7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531200" y="505296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73800" y="5159520"/>
              <a:ext cx="180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81760" y="540072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7440" y="6327720"/>
              <a:ext cx="507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rcRect l="0" t="0" r="41629" b="0"/>
            <a:stretch/>
          </p:blipFill>
          <p:spPr>
            <a:xfrm rot="20335800">
              <a:off x="2614680" y="4836960"/>
              <a:ext cx="1434960" cy="1841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0" name=""/>
            <p:cNvSpPr/>
            <p:nvPr/>
          </p:nvSpPr>
          <p:spPr>
            <a:xfrm>
              <a:off x="3691080" y="5840640"/>
              <a:ext cx="1571400" cy="334800"/>
            </a:xfrm>
            <a:custGeom>
              <a:avLst/>
              <a:gdLst/>
              <a:ahLst/>
              <a:rect l="l" t="t" r="r" b="b"/>
              <a:pathLst>
                <a:path w="1015" h="226">
                  <a:moveTo>
                    <a:pt x="0" y="226"/>
                  </a:moveTo>
                  <a:cubicBezTo>
                    <a:pt x="153" y="139"/>
                    <a:pt x="306" y="52"/>
                    <a:pt x="475" y="26"/>
                  </a:cubicBezTo>
                  <a:cubicBezTo>
                    <a:pt x="644" y="0"/>
                    <a:pt x="829" y="35"/>
                    <a:pt x="1015" y="7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— 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529240" y="5629320"/>
            <a:ext cx="2286000" cy="650880"/>
            <a:chOff x="5529240" y="5629320"/>
            <a:chExt cx="2286000" cy="650880"/>
          </a:xfrm>
        </p:grpSpPr>
        <p:sp>
          <p:nvSpPr>
            <p:cNvPr id="183" name=""/>
            <p:cNvSpPr/>
            <p:nvPr/>
          </p:nvSpPr>
          <p:spPr>
            <a:xfrm>
              <a:off x="6084720" y="623268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64280" y="60184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3040" y="5835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13480" y="5843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97640" y="5962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34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2308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38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03960" y="6161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3120" y="57009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01040" y="5693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11920" y="59310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67720" y="5629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46760" y="610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54680" y="5827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00520" y="58914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2924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6400" y="1260360"/>
            <a:ext cx="80028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ouble membrane energy harvesting organell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mooth out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ighly folded inn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atrix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inner fluid-filled spac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NA, riboso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ree in matrix &amp; membrane-bound 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218360" y="5788080"/>
            <a:ext cx="1927800" cy="1070640"/>
            <a:chOff x="7218360" y="5788080"/>
            <a:chExt cx="1927800" cy="1070640"/>
          </a:xfrm>
        </p:grpSpPr>
        <p:sp>
          <p:nvSpPr>
            <p:cNvPr id="202" name=""/>
            <p:cNvSpPr/>
            <p:nvPr/>
          </p:nvSpPr>
          <p:spPr>
            <a:xfrm>
              <a:off x="7218360" y="578808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31" y="0"/>
                  </a:moveTo>
                  <a:cubicBezTo>
                    <a:pt x="27" y="5"/>
                    <a:pt x="25" y="10"/>
                    <a:pt x="21" y="15"/>
                  </a:cubicBezTo>
                  <a:cubicBezTo>
                    <a:pt x="16" y="19"/>
                    <a:pt x="7" y="19"/>
                    <a:pt x="6" y="25"/>
                  </a:cubicBezTo>
                  <a:cubicBezTo>
                    <a:pt x="0" y="42"/>
                    <a:pt x="31" y="75"/>
                    <a:pt x="31" y="75"/>
                  </a:cubicBezTo>
                  <a:cubicBezTo>
                    <a:pt x="35" y="94"/>
                    <a:pt x="31" y="96"/>
                    <a:pt x="51" y="105"/>
                  </a:cubicBezTo>
                  <a:cubicBezTo>
                    <a:pt x="60" y="109"/>
                    <a:pt x="81" y="115"/>
                    <a:pt x="81" y="115"/>
                  </a:cubicBezTo>
                  <a:cubicBezTo>
                    <a:pt x="113" y="104"/>
                    <a:pt x="94" y="85"/>
                    <a:pt x="81" y="65"/>
                  </a:cubicBezTo>
                  <a:cubicBezTo>
                    <a:pt x="74" y="6"/>
                    <a:pt x="78" y="15"/>
                    <a:pt x="31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7387920" y="6203880"/>
              <a:ext cx="55548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67520" y="6496200"/>
              <a:ext cx="1178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3"/>
          <a:srcRect l="6750" t="24000" r="2250" b="24000"/>
          <a:stretch/>
        </p:blipFill>
        <p:spPr>
          <a:xfrm>
            <a:off x="5708520" y="1657440"/>
            <a:ext cx="3259440" cy="13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27080" y="5121360"/>
            <a:ext cx="23432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304920" y="6238800"/>
            <a:ext cx="2384280" cy="5886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hat cells would have a lot of mitochondria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–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260819"/>
          <a:stretch/>
        </p:blipFill>
        <p:spPr>
          <a:xfrm>
            <a:off x="119160" y="2263680"/>
            <a:ext cx="42465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119160" y="5411880"/>
            <a:ext cx="4265640" cy="12333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is tell us about the evolution of eukaryotes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ndosymbiosis</a:t>
            </a:r>
            <a:r>
              <a:rPr b="1" i="1" lang="en-US" sz="22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9160" y="1320120"/>
            <a:ext cx="423864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Dividing mitochondria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o else divides like that?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67240" y="5396040"/>
            <a:ext cx="4643280" cy="1434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highly folded inner membrane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re surface area for membrane-bound enzymes &amp; permeas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27640" y="2133720"/>
            <a:ext cx="4668480" cy="3173040"/>
            <a:chOff x="4427640" y="2133720"/>
            <a:chExt cx="4668480" cy="317304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rcRect l="476280" t="0" r="0" b="382707"/>
            <a:stretch/>
          </p:blipFill>
          <p:spPr>
            <a:xfrm>
              <a:off x="4459320" y="2133720"/>
              <a:ext cx="4636800" cy="31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461120" y="2779560"/>
              <a:ext cx="719280" cy="451800"/>
            </a:xfrm>
            <a:prstGeom prst="rect">
              <a:avLst/>
            </a:prstGeom>
            <a:solidFill>
              <a:srgbClr val="ff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27640" y="2177280"/>
              <a:ext cx="987120" cy="60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43480" y="1320120"/>
            <a:ext cx="464328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Membrane-bound protein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zymes &amp; permease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30800" y="166680"/>
            <a:ext cx="1735200" cy="1073160"/>
          </a:xfrm>
          <a:prstGeom prst="wedgeEllipseCallout">
            <a:avLst>
              <a:gd name="adj1" fmla="val 69851"/>
              <a:gd name="adj2" fmla="val -3150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1600" y="2341440"/>
            <a:ext cx="1503360" cy="4222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bacteria</a:t>
            </a:r>
            <a:r>
              <a:rPr b="1" i="1" lang="en-US" sz="25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685800" y="1944720"/>
            <a:ext cx="7696080" cy="1905120"/>
            <a:chOff x="685800" y="1944720"/>
            <a:chExt cx="7696080" cy="1905120"/>
          </a:xfrm>
        </p:grpSpPr>
        <p:sp>
          <p:nvSpPr>
            <p:cNvPr id="222" name=""/>
            <p:cNvSpPr/>
            <p:nvPr/>
          </p:nvSpPr>
          <p:spPr>
            <a:xfrm>
              <a:off x="685800" y="1944720"/>
              <a:ext cx="7696080" cy="19051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4160" y="2295720"/>
              <a:ext cx="627840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acetyl CoA +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82160" y="2858760"/>
            <a:ext cx="1537560" cy="961920"/>
            <a:chOff x="2882160" y="2858760"/>
            <a:chExt cx="1537560" cy="961920"/>
          </a:xfrm>
        </p:grpSpPr>
        <p:sp>
          <p:nvSpPr>
            <p:cNvPr id="226" name=""/>
            <p:cNvSpPr/>
            <p:nvPr/>
          </p:nvSpPr>
          <p:spPr>
            <a:xfrm flipV="1">
              <a:off x="3505320" y="285840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82160" y="339156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9051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859120"/>
            <a:ext cx="533520" cy="5335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3200" y="1675440"/>
            <a:ext cx="7738200" cy="1877040"/>
            <a:chOff x="763200" y="1675440"/>
            <a:chExt cx="7738200" cy="1877040"/>
          </a:xfrm>
        </p:grpSpPr>
        <p:sp>
          <p:nvSpPr>
            <p:cNvPr id="232" name=""/>
            <p:cNvSpPr/>
            <p:nvPr/>
          </p:nvSpPr>
          <p:spPr>
            <a:xfrm>
              <a:off x="104976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[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200" y="2355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3144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]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440160" y="-223920"/>
            <a:ext cx="7858080" cy="7513560"/>
            <a:chOff x="3440160" y="-223920"/>
            <a:chExt cx="7858080" cy="7513560"/>
          </a:xfrm>
        </p:grpSpPr>
        <p:sp>
          <p:nvSpPr>
            <p:cNvPr id="236" name=""/>
            <p:cNvSpPr/>
            <p:nvPr/>
          </p:nvSpPr>
          <p:spPr>
            <a:xfrm>
              <a:off x="3440160" y="-223920"/>
              <a:ext cx="7858080" cy="7513560"/>
            </a:xfrm>
            <a:prstGeom prst="ellipse">
              <a:avLst/>
            </a:prstGeom>
            <a:noFill/>
            <a:ln w="152280">
              <a:solidFill>
                <a:srgbClr val="9933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68960" y="104760"/>
              <a:ext cx="5941800" cy="6807240"/>
            </a:xfrm>
            <a:custGeom>
              <a:avLst/>
              <a:gdLst/>
              <a:ahLst/>
              <a:rect l="l" t="t" r="r" b="b"/>
              <a:pathLst>
                <a:path w="3743" h="4288">
                  <a:moveTo>
                    <a:pt x="3322" y="423"/>
                  </a:moveTo>
                  <a:cubicBezTo>
                    <a:pt x="3295" y="532"/>
                    <a:pt x="3268" y="653"/>
                    <a:pt x="3221" y="757"/>
                  </a:cubicBezTo>
                  <a:cubicBezTo>
                    <a:pt x="3174" y="861"/>
                    <a:pt x="3120" y="987"/>
                    <a:pt x="3042" y="1045"/>
                  </a:cubicBezTo>
                  <a:cubicBezTo>
                    <a:pt x="2964" y="1103"/>
                    <a:pt x="2811" y="1147"/>
                    <a:pt x="2755" y="1107"/>
                  </a:cubicBezTo>
                  <a:cubicBezTo>
                    <a:pt x="2699" y="1067"/>
                    <a:pt x="2672" y="892"/>
                    <a:pt x="2708" y="804"/>
                  </a:cubicBezTo>
                  <a:cubicBezTo>
                    <a:pt x="2744" y="716"/>
                    <a:pt x="2918" y="657"/>
                    <a:pt x="2972" y="579"/>
                  </a:cubicBezTo>
                  <a:cubicBezTo>
                    <a:pt x="3026" y="501"/>
                    <a:pt x="3043" y="402"/>
                    <a:pt x="3034" y="338"/>
                  </a:cubicBezTo>
                  <a:cubicBezTo>
                    <a:pt x="3025" y="274"/>
                    <a:pt x="2980" y="229"/>
                    <a:pt x="2918" y="198"/>
                  </a:cubicBezTo>
                  <a:cubicBezTo>
                    <a:pt x="2856" y="167"/>
                    <a:pt x="2744" y="134"/>
                    <a:pt x="2661" y="151"/>
                  </a:cubicBezTo>
                  <a:cubicBezTo>
                    <a:pt x="2578" y="168"/>
                    <a:pt x="2455" y="208"/>
                    <a:pt x="2421" y="299"/>
                  </a:cubicBezTo>
                  <a:cubicBezTo>
                    <a:pt x="2387" y="390"/>
                    <a:pt x="2494" y="598"/>
                    <a:pt x="2459" y="695"/>
                  </a:cubicBezTo>
                  <a:cubicBezTo>
                    <a:pt x="2424" y="792"/>
                    <a:pt x="2292" y="882"/>
                    <a:pt x="2211" y="881"/>
                  </a:cubicBezTo>
                  <a:cubicBezTo>
                    <a:pt x="2130" y="880"/>
                    <a:pt x="2000" y="764"/>
                    <a:pt x="1970" y="687"/>
                  </a:cubicBezTo>
                  <a:cubicBezTo>
                    <a:pt x="1940" y="610"/>
                    <a:pt x="2005" y="492"/>
                    <a:pt x="2032" y="416"/>
                  </a:cubicBezTo>
                  <a:cubicBezTo>
                    <a:pt x="2059" y="340"/>
                    <a:pt x="2123" y="287"/>
                    <a:pt x="2133" y="229"/>
                  </a:cubicBezTo>
                  <a:cubicBezTo>
                    <a:pt x="2143" y="171"/>
                    <a:pt x="2144" y="101"/>
                    <a:pt x="2094" y="66"/>
                  </a:cubicBezTo>
                  <a:cubicBezTo>
                    <a:pt x="2044" y="31"/>
                    <a:pt x="1926" y="23"/>
                    <a:pt x="1830" y="19"/>
                  </a:cubicBezTo>
                  <a:cubicBezTo>
                    <a:pt x="1734" y="15"/>
                    <a:pt x="1608" y="0"/>
                    <a:pt x="1520" y="43"/>
                  </a:cubicBezTo>
                  <a:cubicBezTo>
                    <a:pt x="1432" y="86"/>
                    <a:pt x="1323" y="179"/>
                    <a:pt x="1302" y="276"/>
                  </a:cubicBezTo>
                  <a:cubicBezTo>
                    <a:pt x="1281" y="373"/>
                    <a:pt x="1329" y="533"/>
                    <a:pt x="1395" y="625"/>
                  </a:cubicBezTo>
                  <a:cubicBezTo>
                    <a:pt x="1461" y="717"/>
                    <a:pt x="1654" y="743"/>
                    <a:pt x="1698" y="827"/>
                  </a:cubicBezTo>
                  <a:cubicBezTo>
                    <a:pt x="1742" y="911"/>
                    <a:pt x="1721" y="1058"/>
                    <a:pt x="1660" y="1130"/>
                  </a:cubicBezTo>
                  <a:cubicBezTo>
                    <a:pt x="1599" y="1202"/>
                    <a:pt x="1439" y="1262"/>
                    <a:pt x="1333" y="1262"/>
                  </a:cubicBezTo>
                  <a:cubicBezTo>
                    <a:pt x="1227" y="1262"/>
                    <a:pt x="1106" y="1221"/>
                    <a:pt x="1023" y="1130"/>
                  </a:cubicBezTo>
                  <a:cubicBezTo>
                    <a:pt x="940" y="1039"/>
                    <a:pt x="934" y="788"/>
                    <a:pt x="836" y="718"/>
                  </a:cubicBezTo>
                  <a:cubicBezTo>
                    <a:pt x="738" y="648"/>
                    <a:pt x="550" y="653"/>
                    <a:pt x="432" y="711"/>
                  </a:cubicBezTo>
                  <a:cubicBezTo>
                    <a:pt x="314" y="769"/>
                    <a:pt x="190" y="943"/>
                    <a:pt x="129" y="1068"/>
                  </a:cubicBezTo>
                  <a:cubicBezTo>
                    <a:pt x="68" y="1193"/>
                    <a:pt x="33" y="1320"/>
                    <a:pt x="67" y="1464"/>
                  </a:cubicBezTo>
                  <a:cubicBezTo>
                    <a:pt x="101" y="1608"/>
                    <a:pt x="196" y="1811"/>
                    <a:pt x="331" y="1930"/>
                  </a:cubicBezTo>
                  <a:cubicBezTo>
                    <a:pt x="466" y="2049"/>
                    <a:pt x="700" y="2154"/>
                    <a:pt x="875" y="2178"/>
                  </a:cubicBezTo>
                  <a:cubicBezTo>
                    <a:pt x="1050" y="2202"/>
                    <a:pt x="1249" y="2068"/>
                    <a:pt x="1380" y="2077"/>
                  </a:cubicBezTo>
                  <a:cubicBezTo>
                    <a:pt x="1511" y="2086"/>
                    <a:pt x="1619" y="2162"/>
                    <a:pt x="1660" y="2233"/>
                  </a:cubicBezTo>
                  <a:cubicBezTo>
                    <a:pt x="1701" y="2304"/>
                    <a:pt x="1702" y="2440"/>
                    <a:pt x="1628" y="2505"/>
                  </a:cubicBezTo>
                  <a:cubicBezTo>
                    <a:pt x="1554" y="2570"/>
                    <a:pt x="1395" y="2625"/>
                    <a:pt x="1217" y="2621"/>
                  </a:cubicBezTo>
                  <a:cubicBezTo>
                    <a:pt x="1039" y="2617"/>
                    <a:pt x="727" y="2511"/>
                    <a:pt x="557" y="2481"/>
                  </a:cubicBezTo>
                  <a:cubicBezTo>
                    <a:pt x="387" y="2451"/>
                    <a:pt x="288" y="2408"/>
                    <a:pt x="199" y="2443"/>
                  </a:cubicBezTo>
                  <a:cubicBezTo>
                    <a:pt x="110" y="2478"/>
                    <a:pt x="40" y="2599"/>
                    <a:pt x="21" y="2691"/>
                  </a:cubicBezTo>
                  <a:cubicBezTo>
                    <a:pt x="2" y="2783"/>
                    <a:pt x="0" y="2911"/>
                    <a:pt x="83" y="2994"/>
                  </a:cubicBezTo>
                  <a:cubicBezTo>
                    <a:pt x="166" y="3077"/>
                    <a:pt x="306" y="3191"/>
                    <a:pt x="518" y="3188"/>
                  </a:cubicBezTo>
                  <a:cubicBezTo>
                    <a:pt x="730" y="3185"/>
                    <a:pt x="1184" y="3041"/>
                    <a:pt x="1357" y="2978"/>
                  </a:cubicBezTo>
                  <a:cubicBezTo>
                    <a:pt x="1530" y="2915"/>
                    <a:pt x="1483" y="2854"/>
                    <a:pt x="1559" y="2808"/>
                  </a:cubicBezTo>
                  <a:cubicBezTo>
                    <a:pt x="1635" y="2762"/>
                    <a:pt x="1735" y="2712"/>
                    <a:pt x="1815" y="2699"/>
                  </a:cubicBezTo>
                  <a:cubicBezTo>
                    <a:pt x="1895" y="2686"/>
                    <a:pt x="1983" y="2689"/>
                    <a:pt x="2040" y="2730"/>
                  </a:cubicBezTo>
                  <a:cubicBezTo>
                    <a:pt x="2097" y="2771"/>
                    <a:pt x="2149" y="2872"/>
                    <a:pt x="2157" y="2947"/>
                  </a:cubicBezTo>
                  <a:cubicBezTo>
                    <a:pt x="2165" y="3022"/>
                    <a:pt x="2167" y="3115"/>
                    <a:pt x="2087" y="3180"/>
                  </a:cubicBezTo>
                  <a:cubicBezTo>
                    <a:pt x="2007" y="3245"/>
                    <a:pt x="1812" y="3306"/>
                    <a:pt x="1675" y="3336"/>
                  </a:cubicBezTo>
                  <a:cubicBezTo>
                    <a:pt x="1538" y="3366"/>
                    <a:pt x="1370" y="3302"/>
                    <a:pt x="1263" y="3359"/>
                  </a:cubicBezTo>
                  <a:cubicBezTo>
                    <a:pt x="1156" y="3416"/>
                    <a:pt x="1058" y="3567"/>
                    <a:pt x="1030" y="3677"/>
                  </a:cubicBezTo>
                  <a:cubicBezTo>
                    <a:pt x="1002" y="3787"/>
                    <a:pt x="1051" y="3931"/>
                    <a:pt x="1093" y="4019"/>
                  </a:cubicBezTo>
                  <a:cubicBezTo>
                    <a:pt x="1135" y="4107"/>
                    <a:pt x="1181" y="4162"/>
                    <a:pt x="1279" y="4205"/>
                  </a:cubicBezTo>
                  <a:cubicBezTo>
                    <a:pt x="1377" y="4248"/>
                    <a:pt x="1537" y="4288"/>
                    <a:pt x="1683" y="4275"/>
                  </a:cubicBezTo>
                  <a:cubicBezTo>
                    <a:pt x="1829" y="4262"/>
                    <a:pt x="2041" y="4251"/>
                    <a:pt x="2157" y="4128"/>
                  </a:cubicBezTo>
                  <a:cubicBezTo>
                    <a:pt x="2273" y="4005"/>
                    <a:pt x="2333" y="3709"/>
                    <a:pt x="2382" y="3538"/>
                  </a:cubicBezTo>
                  <a:cubicBezTo>
                    <a:pt x="2431" y="3367"/>
                    <a:pt x="2393" y="3199"/>
                    <a:pt x="2452" y="3103"/>
                  </a:cubicBezTo>
                  <a:cubicBezTo>
                    <a:pt x="2511" y="3007"/>
                    <a:pt x="2650" y="2964"/>
                    <a:pt x="2739" y="2963"/>
                  </a:cubicBezTo>
                  <a:cubicBezTo>
                    <a:pt x="2828" y="2962"/>
                    <a:pt x="2949" y="3014"/>
                    <a:pt x="2988" y="3095"/>
                  </a:cubicBezTo>
                  <a:cubicBezTo>
                    <a:pt x="3027" y="3176"/>
                    <a:pt x="2986" y="3336"/>
                    <a:pt x="2972" y="3452"/>
                  </a:cubicBezTo>
                  <a:cubicBezTo>
                    <a:pt x="2958" y="3568"/>
                    <a:pt x="2906" y="3688"/>
                    <a:pt x="2902" y="3794"/>
                  </a:cubicBezTo>
                  <a:cubicBezTo>
                    <a:pt x="2898" y="3900"/>
                    <a:pt x="2860" y="4023"/>
                    <a:pt x="2949" y="4089"/>
                  </a:cubicBezTo>
                  <a:cubicBezTo>
                    <a:pt x="3038" y="4155"/>
                    <a:pt x="3312" y="4244"/>
                    <a:pt x="3438" y="4190"/>
                  </a:cubicBezTo>
                  <a:cubicBezTo>
                    <a:pt x="3564" y="4136"/>
                    <a:pt x="3685" y="4011"/>
                    <a:pt x="3702" y="3763"/>
                  </a:cubicBezTo>
                  <a:cubicBezTo>
                    <a:pt x="3719" y="3515"/>
                    <a:pt x="3597" y="2995"/>
                    <a:pt x="3539" y="2699"/>
                  </a:cubicBezTo>
                  <a:cubicBezTo>
                    <a:pt x="3481" y="2403"/>
                    <a:pt x="3330" y="2273"/>
                    <a:pt x="3353" y="1984"/>
                  </a:cubicBezTo>
                  <a:cubicBezTo>
                    <a:pt x="3376" y="1695"/>
                    <a:pt x="3622" y="1270"/>
                    <a:pt x="3679" y="967"/>
                  </a:cubicBezTo>
                  <a:cubicBezTo>
                    <a:pt x="3736" y="664"/>
                    <a:pt x="3743" y="311"/>
                    <a:pt x="3694" y="167"/>
                  </a:cubicBezTo>
                  <a:cubicBezTo>
                    <a:pt x="3645" y="23"/>
                    <a:pt x="3449" y="66"/>
                    <a:pt x="3384" y="105"/>
                  </a:cubicBezTo>
                  <a:cubicBezTo>
                    <a:pt x="3319" y="144"/>
                    <a:pt x="3349" y="314"/>
                    <a:pt x="3322" y="423"/>
                  </a:cubicBezTo>
                  <a:close/>
                </a:path>
              </a:pathLst>
            </a:custGeom>
            <a:noFill/>
            <a:ln w="177840">
              <a:solidFill>
                <a:srgbClr val="9933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3830760"/>
            <a:ext cx="9144000" cy="3027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869240" y="52578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254480" y="30942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enters mitochondrial matrix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3 step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oxidation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proces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leas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CO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(count the carbons!)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 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2 NADH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(moves e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cetyl CoA enters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Krebs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8320" y="3665520"/>
            <a:ext cx="1682640" cy="1303200"/>
          </a:xfrm>
          <a:prstGeom prst="wedgeEllipseCallout">
            <a:avLst>
              <a:gd name="adj1" fmla="val 17546"/>
              <a:gd name="adj2" fmla="val 82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does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  <a:ea typeface="Geneva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go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Exhale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08960" y="569880"/>
            <a:ext cx="1272960" cy="1857240"/>
          </a:xfrm>
          <a:custGeom>
            <a:avLst/>
            <a:gdLst/>
            <a:ahLst/>
            <a:rect l="l" t="t" r="r" b="b"/>
            <a:pathLst>
              <a:path w="802" h="1170">
                <a:moveTo>
                  <a:pt x="98" y="1170"/>
                </a:moveTo>
                <a:cubicBezTo>
                  <a:pt x="141" y="1124"/>
                  <a:pt x="184" y="1079"/>
                  <a:pt x="174" y="1018"/>
                </a:cubicBezTo>
                <a:cubicBezTo>
                  <a:pt x="164" y="957"/>
                  <a:pt x="0" y="851"/>
                  <a:pt x="37" y="805"/>
                </a:cubicBezTo>
                <a:cubicBezTo>
                  <a:pt x="74" y="759"/>
                  <a:pt x="319" y="766"/>
                  <a:pt x="397" y="740"/>
                </a:cubicBezTo>
                <a:cubicBezTo>
                  <a:pt x="475" y="714"/>
                  <a:pt x="508" y="690"/>
                  <a:pt x="508" y="649"/>
                </a:cubicBezTo>
                <a:cubicBezTo>
                  <a:pt x="508" y="608"/>
                  <a:pt x="393" y="531"/>
                  <a:pt x="397" y="492"/>
                </a:cubicBezTo>
                <a:cubicBezTo>
                  <a:pt x="401" y="453"/>
                  <a:pt x="489" y="447"/>
                  <a:pt x="533" y="416"/>
                </a:cubicBezTo>
                <a:cubicBezTo>
                  <a:pt x="577" y="385"/>
                  <a:pt x="635" y="346"/>
                  <a:pt x="660" y="304"/>
                </a:cubicBezTo>
                <a:cubicBezTo>
                  <a:pt x="685" y="262"/>
                  <a:pt x="669" y="198"/>
                  <a:pt x="685" y="162"/>
                </a:cubicBezTo>
                <a:cubicBezTo>
                  <a:pt x="701" y="126"/>
                  <a:pt x="737" y="114"/>
                  <a:pt x="756" y="87"/>
                </a:cubicBezTo>
                <a:cubicBezTo>
                  <a:pt x="775" y="60"/>
                  <a:pt x="788" y="30"/>
                  <a:pt x="802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0040" y="6350040"/>
            <a:ext cx="1270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oxidized to Acetyl Co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902" t="2386" r="1351" b="6040"/>
          <a:stretch/>
        </p:blipFill>
        <p:spPr>
          <a:xfrm>
            <a:off x="907920" y="1452600"/>
            <a:ext cx="7597800" cy="403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7" name=""/>
          <p:cNvSpPr/>
          <p:nvPr/>
        </p:nvSpPr>
        <p:spPr>
          <a:xfrm>
            <a:off x="1784520" y="6024240"/>
            <a:ext cx="5817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Yield =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C sugar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NADH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3720" y="2266200"/>
            <a:ext cx="1400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30000" y="4987080"/>
            <a:ext cx="13701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7680" y="4185360"/>
            <a:ext cx="1908360" cy="3715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enzyme 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72080" y="3503520"/>
            <a:ext cx="731880" cy="647640"/>
          </a:xfrm>
          <a:custGeom>
            <a:avLst/>
            <a:gdLst/>
            <a:ahLst/>
            <a:rect l="l" t="t" r="r" b="b"/>
            <a:pathLst>
              <a:path w="330" h="300">
                <a:moveTo>
                  <a:pt x="0" y="300"/>
                </a:moveTo>
                <a:cubicBezTo>
                  <a:pt x="10" y="250"/>
                  <a:pt x="20" y="200"/>
                  <a:pt x="75" y="150"/>
                </a:cubicBezTo>
                <a:cubicBezTo>
                  <a:pt x="130" y="100"/>
                  <a:pt x="230" y="50"/>
                  <a:pt x="33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71560" y="4399560"/>
            <a:ext cx="186228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9600" y="4177440"/>
            <a:ext cx="195444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60000" y="479664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78480" y="4574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3600" y="4351320"/>
            <a:ext cx="699840" cy="7002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6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459240" y="2141640"/>
            <a:ext cx="1293480" cy="841320"/>
            <a:chOff x="3459240" y="2141640"/>
            <a:chExt cx="1293480" cy="841320"/>
          </a:xfrm>
        </p:grpSpPr>
        <p:sp>
          <p:nvSpPr>
            <p:cNvPr id="258" name=""/>
            <p:cNvSpPr/>
            <p:nvPr/>
          </p:nvSpPr>
          <p:spPr>
            <a:xfrm>
              <a:off x="3730680" y="230688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9240" y="2141640"/>
              <a:ext cx="183960" cy="841320"/>
            </a:xfrm>
            <a:custGeom>
              <a:avLst/>
              <a:gdLst>
                <a:gd name="textAreaLeft" fmla="*/ 41760 w 183960"/>
                <a:gd name="textAreaRight" fmla="*/ 142200 w 183960"/>
                <a:gd name="textAreaTop" fmla="*/ 191880 h 841320"/>
                <a:gd name="textAreaBottom" fmla="*/ 64944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921200" y="19908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222800" y="2801880"/>
            <a:ext cx="1262160" cy="534960"/>
          </a:xfrm>
          <a:custGeom>
            <a:avLst/>
            <a:gdLst/>
            <a:ahLst/>
            <a:rect l="l" t="t" r="r" b="b"/>
            <a:pathLst>
              <a:path w="815" h="392">
                <a:moveTo>
                  <a:pt x="0" y="5"/>
                </a:moveTo>
                <a:cubicBezTo>
                  <a:pt x="24" y="105"/>
                  <a:pt x="48" y="206"/>
                  <a:pt x="115" y="270"/>
                </a:cubicBezTo>
                <a:cubicBezTo>
                  <a:pt x="182" y="334"/>
                  <a:pt x="306" y="392"/>
                  <a:pt x="405" y="390"/>
                </a:cubicBezTo>
                <a:cubicBezTo>
                  <a:pt x="504" y="388"/>
                  <a:pt x="642" y="325"/>
                  <a:pt x="710" y="260"/>
                </a:cubicBezTo>
                <a:cubicBezTo>
                  <a:pt x="778" y="195"/>
                  <a:pt x="796" y="97"/>
                  <a:pt x="815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81640" y="5758920"/>
            <a:ext cx="7030440" cy="947520"/>
            <a:chOff x="881640" y="5758920"/>
            <a:chExt cx="7030440" cy="947520"/>
          </a:xfrm>
        </p:grpSpPr>
        <p:sp>
          <p:nvSpPr>
            <p:cNvPr id="263" name=""/>
            <p:cNvSpPr/>
            <p:nvPr/>
          </p:nvSpPr>
          <p:spPr>
            <a:xfrm>
              <a:off x="881640" y="5758920"/>
              <a:ext cx="1052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6a"/>
                  </a:solidFill>
                  <a:latin typeface="Arial"/>
                </a:rPr>
                <a:t>2 x </a:t>
              </a: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[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93760" y="5758920"/>
              <a:ext cx="4183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]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951280" y="3049560"/>
            <a:ext cx="531720" cy="8208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5000" y="3436920"/>
            <a:ext cx="480528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4918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ka Citric Acid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itochondrial matri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8 step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catalyzed by specific enzy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ep-wis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6C citr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olecu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ved later than glycoly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es that make evolutionary sens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cteri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.5 billion years ago 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(glycoly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.7 billion years ago </a:t>
            </a:r>
            <a:r>
              <a:rPr b="1" lang="en-US" sz="2400" spc="-1" strike="noStrike">
                <a:solidFill>
                  <a:srgbClr val="005c00"/>
                </a:solidFill>
                <a:latin typeface="Arial"/>
              </a:rPr>
              <a:t>(photosynthe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ukaryotes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.5 billion years ag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aerobic respiration = organelles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mitochondria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512120" y="906480"/>
            <a:ext cx="1454040" cy="2057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3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53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32200" y="29394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ans Kre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1900-198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12-21T05:51:06Z</cp:lastPrinted>
  <dcterms:modified xsi:type="dcterms:W3CDTF">2009-01-11T21:55:51Z</dcterms:modified>
  <cp:revision>78</cp:revision>
  <dc:subject/>
  <dc:title> Cellular Respiration   Oxidation of Pyruvate   Krebs Cycle</dc:title>
</cp:coreProperties>
</file>